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FD89-7350-422B-BCCE-13D07850F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258B-0E7B-4141-B115-AD783D12DD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F632-277E-4642-BBE5-8C89400258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66A4-7143-4B87-99E7-1BDC8F306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198F-5309-4CCE-9C7F-6CD0074570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CC2A-9C42-4611-8CED-2AEAF224FA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0889-5B86-4321-BC56-FBFC4F1080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3977-0566-40A4-9326-964C077F57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2D77-5CC2-4F31-A7FC-7C6753D55F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03E-8384-4B1D-B635-03BC9A6C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848-24C9-4926-B30D-7928E794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6E7-2B37-4DB7-A75A-ABEB696B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FE9-93AB-4389-B420-1AC818CB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C74-94AA-4CC4-9BAF-7379E79B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417-9A03-47D3-9EB7-D982FDC1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92F-56AF-406B-B9F1-95ABBB0A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ABC-9C60-4357-BD8C-7D4B499B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8A8-0A6C-4A5B-B0F8-5366116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06E-CA18-482B-B7CF-8B8F0F6F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A75-513F-4838-B0AC-26405A0E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B76-6D98-4C98-900F-54D10700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8D32-A73A-47DB-80C3-249AC9C674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cationupdate.com/archives/2004/apr04/issue/car_nixon.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52680" y="5409720"/>
            <a:ext cx="243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By Kirsten Porcelli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ED 702.22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Dr. O’Conner-Petruso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Why Theater &amp; Music Matt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tudy of how the integration of Theater and Music in the classroom shows an increase in students’ attention sp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619280" y="6762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2" descr="images"/>
          <p:cNvPicPr/>
          <p:nvPr/>
        </p:nvPicPr>
        <p:blipFill>
          <a:blip r:embed="rId1"/>
          <a:stretch/>
        </p:blipFill>
        <p:spPr>
          <a:xfrm>
            <a:off x="2819520" y="3581280"/>
            <a:ext cx="175248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2" name="Picture 23" descr="images-2"/>
          <p:cNvPicPr/>
          <p:nvPr/>
        </p:nvPicPr>
        <p:blipFill>
          <a:blip r:embed="rId2"/>
          <a:stretch/>
        </p:blipFill>
        <p:spPr>
          <a:xfrm>
            <a:off x="4572000" y="3581280"/>
            <a:ext cx="11430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3" name="Picture 24" descr="images-11"/>
          <p:cNvPicPr/>
          <p:nvPr/>
        </p:nvPicPr>
        <p:blipFill>
          <a:blip r:embed="rId3"/>
          <a:stretch/>
        </p:blipFill>
        <p:spPr>
          <a:xfrm>
            <a:off x="5715000" y="3581280"/>
            <a:ext cx="1447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4" name="Picture 25" descr="images-13"/>
          <p:cNvPicPr/>
          <p:nvPr/>
        </p:nvPicPr>
        <p:blipFill>
          <a:blip r:embed="rId4"/>
          <a:stretch/>
        </p:blipFill>
        <p:spPr>
          <a:xfrm>
            <a:off x="7162920" y="3581280"/>
            <a:ext cx="18288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5" name="Picture 26" descr="images-5"/>
          <p:cNvPicPr/>
          <p:nvPr/>
        </p:nvPicPr>
        <p:blipFill>
          <a:blip r:embed="rId5"/>
          <a:stretch/>
        </p:blipFill>
        <p:spPr>
          <a:xfrm>
            <a:off x="1523880" y="3581280"/>
            <a:ext cx="1285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6" name="Picture 29" descr="images-14"/>
          <p:cNvPicPr/>
          <p:nvPr/>
        </p:nvPicPr>
        <p:blipFill>
          <a:blip r:embed="rId6"/>
          <a:stretch/>
        </p:blipFill>
        <p:spPr>
          <a:xfrm>
            <a:off x="152280" y="3581280"/>
            <a:ext cx="13716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7" name="Rectangle 30"/>
          <p:cNvSpPr/>
          <p:nvPr/>
        </p:nvSpPr>
        <p:spPr>
          <a:xfrm>
            <a:off x="-6094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0" y="66600"/>
            <a:ext cx="32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Table Of Contents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Century Schoolbook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Statement of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Literature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Research Hypoth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images-15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3" name="Picture 8" descr="mission_superstars"/>
          <p:cNvPicPr/>
          <p:nvPr/>
        </p:nvPicPr>
        <p:blipFill>
          <a:blip r:embed="rId2"/>
          <a:stretch/>
        </p:blipFill>
        <p:spPr>
          <a:xfrm>
            <a:off x="7620120" y="1981080"/>
            <a:ext cx="1523880" cy="28195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4" name="Picture 12" descr="images-18"/>
          <p:cNvPicPr/>
          <p:nvPr/>
        </p:nvPicPr>
        <p:blipFill>
          <a:blip r:embed="rId3"/>
          <a:stretch/>
        </p:blipFill>
        <p:spPr>
          <a:xfrm>
            <a:off x="7620120" y="4800600"/>
            <a:ext cx="1523880" cy="2057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65" name="Rectangle 14"/>
          <p:cNvSpPr/>
          <p:nvPr/>
        </p:nvSpPr>
        <p:spPr>
          <a:xfrm>
            <a:off x="0" y="0"/>
            <a:ext cx="762012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Statement of Problem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Lack of theater and music in schools </a:t>
            </a:r>
            <a:r>
              <a:rPr b="0" i="1" lang="en-US" sz="2800" spc="-1" strike="noStrike">
                <a:solidFill>
                  <a:srgbClr val="ffff99"/>
                </a:solidFill>
                <a:latin typeface="Century Schoolbook"/>
              </a:rPr>
              <a:t>Why Children’s Theater Ma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Howard Gardner’s Multiple intellig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Student teaching, Broadway Babies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dget cutting in schools.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entury Schoolbook"/>
                <a:hlinkClick r:id="rId1"/>
              </a:rPr>
              <a:t>Interview with Cynthia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p714487587_8422"/>
          <p:cNvPicPr/>
          <p:nvPr/>
        </p:nvPicPr>
        <p:blipFill>
          <a:blip r:embed="rId2"/>
          <a:stretch/>
        </p:blipFill>
        <p:spPr>
          <a:xfrm>
            <a:off x="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70" name="Picture 7" descr="24classroom_t220"/>
          <p:cNvPicPr/>
          <p:nvPr/>
        </p:nvPicPr>
        <p:blipFill>
          <a:blip r:embed="rId3"/>
          <a:stretch/>
        </p:blipFill>
        <p:spPr>
          <a:xfrm>
            <a:off x="297180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71" name="Picture 9" descr="spotjune22angels"/>
          <p:cNvPicPr/>
          <p:nvPr/>
        </p:nvPicPr>
        <p:blipFill>
          <a:blip r:embed="rId4"/>
          <a:stretch/>
        </p:blipFill>
        <p:spPr>
          <a:xfrm>
            <a:off x="5943600" y="5029200"/>
            <a:ext cx="32004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kids-line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114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Positive Impact of music &amp; theater on soci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cognitive &amp; acade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Mason, Steedly &amp; Thormann (n.d.); Zastrow (2004); Catterall (2002); Betts, Fisher, &amp; Hicks (n.d.); Wood (2006; 200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Increase of Expression &amp;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Crehan (n.d); MENC: The National Association for Music Education (1991); Humphreys (2007); Vermont Arts Council (2006)</a:t>
            </a:r>
            <a:r>
              <a:rPr b="1" lang="en-US" sz="2400" spc="-1" strike="noStrike">
                <a:solidFill>
                  <a:srgbClr val="6633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StudentsSinging"/>
          <p:cNvPicPr/>
          <p:nvPr/>
        </p:nvPicPr>
        <p:blipFill>
          <a:blip r:embed="rId1"/>
          <a:stretch/>
        </p:blipFill>
        <p:spPr>
          <a:xfrm>
            <a:off x="6629400" y="457200"/>
            <a:ext cx="2514600" cy="140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Music increases the attention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Stanford University Medical Center (2007); Wood (2006; 2007); Singh (19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429000"/>
            <a:ext cx="8001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Research/studies on the benefits of arts   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Burnaford, Brown, Doherty, &amp; McLaug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(2007);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Betts, Fisher, &amp; Hicks (n.d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9" descr="images-20"/>
          <p:cNvPicPr/>
          <p:nvPr/>
        </p:nvPicPr>
        <p:blipFill>
          <a:blip r:embed="rId1"/>
          <a:stretch/>
        </p:blipFill>
        <p:spPr>
          <a:xfrm>
            <a:off x="7086600" y="4876920"/>
            <a:ext cx="205740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3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Research Hypothesi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entury Schoolbook"/>
              </a:rPr>
              <a:t>Integrating music and theater into my student teaching first grade classroom at the P.S. 152 annex in Brooklyn, NY, will increase their attention span throughout the day.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images"/>
          <p:cNvPicPr/>
          <p:nvPr/>
        </p:nvPicPr>
        <p:blipFill>
          <a:blip r:embed="rId1"/>
          <a:stretch/>
        </p:blipFill>
        <p:spPr>
          <a:xfrm>
            <a:off x="2608200" y="5105520"/>
            <a:ext cx="211320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8" name="Picture 5" descr="images-2"/>
          <p:cNvPicPr/>
          <p:nvPr/>
        </p:nvPicPr>
        <p:blipFill>
          <a:blip r:embed="rId2"/>
          <a:stretch/>
        </p:blipFill>
        <p:spPr>
          <a:xfrm>
            <a:off x="4456080" y="5105520"/>
            <a:ext cx="13748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9" name="Picture 6" descr="images-11"/>
          <p:cNvPicPr/>
          <p:nvPr/>
        </p:nvPicPr>
        <p:blipFill>
          <a:blip r:embed="rId3"/>
          <a:stretch/>
        </p:blipFill>
        <p:spPr>
          <a:xfrm>
            <a:off x="5551560" y="5105520"/>
            <a:ext cx="1744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0" name="Picture 7" descr="images-13"/>
          <p:cNvPicPr/>
          <p:nvPr/>
        </p:nvPicPr>
        <p:blipFill>
          <a:blip r:embed="rId4"/>
          <a:stretch/>
        </p:blipFill>
        <p:spPr>
          <a:xfrm>
            <a:off x="6940440" y="5105520"/>
            <a:ext cx="2203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1" name="Picture 8" descr="images-5"/>
          <p:cNvPicPr/>
          <p:nvPr/>
        </p:nvPicPr>
        <p:blipFill>
          <a:blip r:embed="rId5"/>
          <a:stretch/>
        </p:blipFill>
        <p:spPr>
          <a:xfrm>
            <a:off x="1384200" y="5105520"/>
            <a:ext cx="15494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2" name="Picture 9" descr="images-14"/>
          <p:cNvPicPr/>
          <p:nvPr/>
        </p:nvPicPr>
        <p:blipFill>
          <a:blip r:embed="rId6"/>
          <a:stretch/>
        </p:blipFill>
        <p:spPr>
          <a:xfrm>
            <a:off x="0" y="5105520"/>
            <a:ext cx="16527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9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Betts, J.D., Fisher, P., &amp; Hicks, S.J. (n.d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Arts integration: semiotic transmediation in the classroom. 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(University of Arizona, Arizona Art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Education Research Institute).  Abstract Retrieved September 24, 2008, from http://www.u.arizona.edu/~bettsj/SemTrans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Von Zastrow, C. (2004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Academic atrophy: The condition of the liberal arts in america's public schools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Washington, DC: Council for Basic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Educatio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Mason, C., Steedly, K., &amp; Thormann, M. (n.d.).  Retrieved September 24, 2008, from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        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http://www.vsarts.org/documents/resources/research/tec_vsa_article_092105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Wood, D. (2006, 2007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Why children's theater matters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education.com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Retrieved September 24, 2008, from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http://www.adventurestage.org/filebin/pdf/Why%20Children%5C's%20Theater%20Matters-Education.com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Crehan, T.G. (n.d.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Movement and rhythm in special settings: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its power, breadth and influence.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Retrieved September 25, 2008, from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http://www.hichumanities.org/AHproceedings/Tressa%20Gorman%20Crehan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Burnaford, G Ph.D., Brown, S., Doherty, J., &amp; McLaughlin, H. J. (2007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).  Arts integration: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frameworks, research practice.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Retrieved September 28, 2008,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from http://www.aep-arts.org/files/publications/arts_integration_book_final.pdf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Catterall, J.S. (2002, September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Critical links: learning in the arts and student social  and academic development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Retrieved September 25, 2008, from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The University of California.Web site: http://www.gseis.ucla.edu/faculty/pages/catterall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 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Stanford University Medical Center (2007, August 5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Music moves brain to pay attention, study finds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science daily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Retrieved October 1, 2008, from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http://www.sciencedaily.com­ /releases/2007/08/070801122226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Menc: The National Association for Music Education. (1991, March)</a:t>
            </a: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Growing up complete: the imperative for music education.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Retrieved October 1,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2008, from http://www.menc.org/resources/view/growing-up-complete-the-imperative-for-music-educ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Singh, A. (1999, February 07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The appeal of rhythm and movement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The Hindu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.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Retrieved October 1, 2008, from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http://www.hinduonnet.com/folio/fo9902/99020200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 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International Society for Music Education. (2007, November 7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Why music education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? Retrieved October 1, 2008, from http://www.isme.org/en/advocacy-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articles/11-why-music-education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78487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0:03Z</dcterms:created>
  <dc:creator>The Punishers</dc:creator>
  <dc:description/>
  <dc:language>en-US</dc:language>
  <cp:lastModifiedBy>The Punishers</cp:lastModifiedBy>
  <dcterms:modified xsi:type="dcterms:W3CDTF">2008-10-23T23:21:31Z</dcterms:modified>
  <cp:revision>48</cp:revision>
  <dc:subject/>
  <dc:title>By Kirsten Porcelli ED 702.22 Fall 2008 Dr. O’Connor-Petruso</dc:title>
</cp:coreProperties>
</file>